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1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B6D4F-0346-4214-84F9-C03E88120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4DA90-5634-48C7-BCEA-60AC60ABFA7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1957A-3909-4F81-BCF8-AA48CE2E6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73565-3643-459E-9E43-6C9FF5BD0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940C6-E2AE-4162-88F3-5D5DE2CC8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0BCA8-FD5E-4153-ACCE-3E108374A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00698-E784-44F4-AB34-F2E1D9645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F17A8-0DD3-45DD-BDEE-87A5B6D4F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0E93A-5651-435A-B1FB-C4DC092B7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90FF8-8905-412C-9757-6FEF63515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58BDD-4BF5-406D-B494-59E31E805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F959B-30F6-4768-8D5D-8C799F327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49DDA-9425-4576-8EDB-34DAD111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3C040-9F68-4993-BC12-70791E9AA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19602-1CB1-45AC-A9B1-10A316D8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36F8F-CA8E-478A-8B21-20CA409FC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70477-0EBC-4362-BFF7-D715A1396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D9075-2298-47FD-A05A-5146B8E36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DFEF8-03FF-468B-BDD8-D722CF220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913B3-2FDC-4AA1-9AAF-F9E55DFB7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FA9E6-EB56-4231-AD76-D64FD9D5D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E54FA-2392-48BA-91CB-C05B5C454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134DE-DFA1-421F-A5B5-EE68C8276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60C07-F33F-479D-A47A-77AE5C928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70EF9-3C06-464A-ADCD-9E02747E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5DA58-8884-4DD0-A6E8-C94C3948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623E9-6FDA-4A15-907E-CD45EA6CC73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ACFD3-D71C-4669-8CFD-23C07FD2031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Hands-On Activity</a:t>
            </a:r>
            <a:endParaRPr b="1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789120" y="3695400"/>
            <a:ext cx="6983280" cy="19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Gummi Bear Genetics</a:t>
            </a:r>
            <a:endParaRPr b="1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Analyze Your Data Set</a:t>
            </a:r>
            <a:endParaRPr b="1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spcAft>
                <a:spcPts val="22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Using your recorded data, determine the inheritance patterns of the three phenotypes.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spcAft>
                <a:spcPts val="22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hoose one of the families (not B or C) and design a fourth generation, using any pair of non-matching parents you want.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spcAft>
                <a:spcPts val="22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reate a diagram that shows how the traits are inherited in this generation.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Extensions</a:t>
            </a:r>
            <a:endParaRPr b="1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"/>
          <p:cNvSpPr/>
          <p:nvPr/>
        </p:nvSpPr>
        <p:spPr>
          <a:xfrm>
            <a:off x="1143000" y="2133720"/>
            <a:ext cx="75438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5000"/>
              </a:lnSpc>
              <a:spcBef>
                <a:spcPts val="799"/>
              </a:spcBef>
              <a:spcAft>
                <a:spcPts val="22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tudents can create their own ‘families’ to illustrate inheritance patter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5000"/>
              </a:lnSpc>
              <a:spcBef>
                <a:spcPts val="799"/>
              </a:spcBef>
              <a:spcAft>
                <a:spcPts val="22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tudents can investigate additional, more complex data s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5000"/>
              </a:lnSpc>
              <a:spcBef>
                <a:spcPts val="799"/>
              </a:spcBef>
              <a:spcAft>
                <a:spcPts val="22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tudents can learn about human models for these inheritance patter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447920"/>
            <a:ext cx="9144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Gummi Bear Genetics </a:t>
            </a:r>
            <a:br>
              <a:rPr sz="6000"/>
            </a:br>
            <a:br>
              <a:rPr sz="6600"/>
            </a:br>
            <a:endParaRPr b="1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95280" y="16761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1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ational standard:</a:t>
            </a:r>
            <a:endParaRPr b="1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lnSpc>
                <a:spcPct val="110000"/>
              </a:lnSpc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Molecular basis of heredity</a:t>
            </a:r>
            <a:endParaRPr b="1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11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cepts:</a:t>
            </a:r>
            <a:endParaRPr b="1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lnSpc>
                <a:spcPct val="110000"/>
              </a:lnSpc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Gene alleles</a:t>
            </a:r>
            <a:endParaRPr b="1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lnSpc>
                <a:spcPct val="110000"/>
              </a:lnSpc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ominant and recessive traits</a:t>
            </a:r>
            <a:endParaRPr b="1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lnSpc>
                <a:spcPct val="110000"/>
              </a:lnSpc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ata analysis</a:t>
            </a:r>
            <a:endParaRPr b="1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Instructions</a:t>
            </a:r>
            <a:endParaRPr b="1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84872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spcAft>
                <a:spcPts val="225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o not eat the Gummi bears!</a:t>
            </a:r>
            <a:endParaRPr b="1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spcAft>
                <a:spcPts val="225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Keep the Gummi bears in each bag separate.</a:t>
            </a:r>
            <a:endParaRPr b="1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spcAft>
                <a:spcPts val="225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turn the Gummi bears to their original bags when finished.</a:t>
            </a:r>
            <a:endParaRPr b="1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What’s in the bag?</a:t>
            </a:r>
            <a:endParaRPr b="1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spcAft>
                <a:spcPts val="225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You have three families to work with.</a:t>
            </a:r>
            <a:endParaRPr b="1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spcAft>
                <a:spcPts val="225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For each family, you have three generations. </a:t>
            </a:r>
            <a:endParaRPr b="1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spcAft>
                <a:spcPts val="225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 loose Gummi bears in the large bags are the parents.</a:t>
            </a:r>
            <a:endParaRPr b="1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560" y="2133360"/>
            <a:ext cx="8458200" cy="19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One trait </a:t>
            </a:r>
            <a:br>
              <a:rPr sz="7200"/>
            </a:b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Two phenotypes</a:t>
            </a:r>
            <a:r>
              <a:rPr b="1" lang="en-US" sz="96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9600"/>
            </a:br>
            <a:endParaRPr b="1" lang="en-US" sz="9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Collect Your Data Set</a:t>
            </a:r>
            <a:endParaRPr b="1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spcAft>
                <a:spcPts val="100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ork with one family at a time.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spcAft>
                <a:spcPts val="100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ecord the genders and colors for each generation in the family.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17080">
              <a:spcBef>
                <a:spcPts val="799"/>
              </a:spcBef>
              <a:spcAft>
                <a:spcPts val="1001"/>
              </a:spcAft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xample: 2 red males, 1 red female, etc.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spcAft>
                <a:spcPts val="100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eturn each generation of Gummi bears to their original bag when finished.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spcAft>
                <a:spcPts val="100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epeat for each family.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Analyze Your Data Set</a:t>
            </a:r>
            <a:endParaRPr b="1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spcAft>
                <a:spcPts val="2475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Using your recorded data, determine the inheritance patterns of the two phenotypes.</a:t>
            </a:r>
            <a:endParaRPr b="1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spcAft>
                <a:spcPts val="2475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reate a diagram that shows how these traits are inherited in Family B.</a:t>
            </a:r>
            <a:endParaRPr b="1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560" y="2133360"/>
            <a:ext cx="8458200" cy="19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One trait </a:t>
            </a:r>
            <a:br>
              <a:rPr sz="72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How many phenotypes?</a:t>
            </a:r>
            <a:r>
              <a:rPr b="1" lang="en-US" sz="96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9600"/>
            </a:br>
            <a:endParaRPr b="1" lang="en-US" sz="9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Collect Your Data Set</a:t>
            </a:r>
            <a:endParaRPr b="1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53452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ork with one family at a time.</a:t>
            </a:r>
            <a:endParaRPr b="1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cord the genders and colors for each generation in the family.</a:t>
            </a:r>
            <a:endParaRPr b="1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20772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xample: 1 green male, 3 green females, etc.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turn each generation of Gummi bears to their original bag when finished.</a:t>
            </a:r>
            <a:endParaRPr b="1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peat for each family.</a:t>
            </a:r>
            <a:endParaRPr b="1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16:28:20Z</dcterms:created>
  <dc:creator>Cynthia J. Moore</dc:creator>
  <dc:description/>
  <dc:language>en-US</dc:language>
  <cp:lastModifiedBy>Cynthia Moore</cp:lastModifiedBy>
  <dcterms:modified xsi:type="dcterms:W3CDTF">2011-02-23T16:39:32Z</dcterms:modified>
  <cp:revision>47</cp:revision>
  <dc:subject/>
  <dc:title>Safety in the Classroom</dc:title>
</cp:coreProperties>
</file>